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3360" cy="308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dfe3e5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4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145883-B198-4A75-BD8C-04AE93B8AEC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17EB8C-D174-4F5B-99BB-E1FB9BF44B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92CE40-B030-4DAB-BA6B-570515FA26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695730-6517-4F6E-A377-8BC40BB44D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C3C36-D6E6-4A36-B8CC-E65CA8E25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43375-D050-4A1F-8F5A-34E15B21C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A556-3877-4BDF-BC1A-268EE8450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3F58-E274-4BC3-9651-7CA1AE7B8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EB165-0234-41DC-B0E8-3D591D574A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56A23-E5A8-4E66-AFBA-3852310420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10D0A-91BD-4C70-8525-73802810DF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5ABA3-EFFD-4B79-B815-60F26D6020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BB34A-CA1A-4B0B-BBBF-8A7C067890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0FD09-83D5-4969-AC1F-851DC125DB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69EAF-C4FF-44A5-938E-716B88FBBF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DE5A-D780-416C-A492-9E0697EF7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CA887-33CA-4877-9D41-267B5625FA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8B23A-2BBC-45DB-BDF5-42825BB18C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84072-A4D2-4FD4-B509-8CE937AE58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BB43-BE75-4AA9-B925-0CEB8674A3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3CB25-FEA3-4B26-B834-4BBE0D1177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494A-581C-47A9-93D8-4AAB40D1C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3CFA-8844-4C32-AB2A-B5809C73B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94FD-A3CA-4629-9273-9B132353E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D46CE-2495-4233-AA9B-F5F543AC2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DFE1-D6E0-421F-9345-0961B0DC1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297B-CB9A-4B61-83E6-B4A231BE7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8D5BD-1AF5-43DA-A318-BDAEE428C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5360" cy="6094440"/>
            <a:chOff x="0" y="152280"/>
            <a:chExt cx="8685360" cy="60944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4480" cy="57132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2720" cy="1217880"/>
            </a:xfrm>
            <a:custGeom>
              <a:avLst/>
              <a:gdLst>
                <a:gd name="textAreaLeft" fmla="*/ 0 w 8532720"/>
                <a:gd name="textAreaRight" fmla="*/ 4266360 w 853272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1000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6b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5520" cy="0"/>
            </a:xfrm>
            <a:prstGeom prst="line">
              <a:avLst/>
            </a:prstGeom>
            <a:ln w="38160">
              <a:solidFill>
                <a:srgbClr val="335b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dfe3e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01DE98-17FA-408A-A6EB-E178378DF689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89920" cy="4494240"/>
            <a:chOff x="0" y="927000"/>
            <a:chExt cx="8989920" cy="44942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89720" cy="33512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1120" cy="989280"/>
            </a:xfrm>
            <a:prstGeom prst="rect">
              <a:avLst/>
            </a:prstGeom>
            <a:solidFill>
              <a:srgbClr val="335b7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89920" cy="1827360"/>
            </a:xfrm>
            <a:custGeom>
              <a:avLst/>
              <a:gdLst>
                <a:gd name="textAreaLeft" fmla="*/ 0 w 8989920"/>
                <a:gd name="textAreaRight" fmla="*/ 4496040 w 8989920"/>
                <a:gd name="textAreaTop" fmla="*/ 0 h 1827360"/>
                <a:gd name="textAreaBottom" fmla="*/ 1827720 h 182736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1000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6b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4120" cy="0"/>
            </a:xfrm>
            <a:prstGeom prst="line">
              <a:avLst/>
            </a:prstGeom>
            <a:ln w="50760">
              <a:solidFill>
                <a:srgbClr val="335b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dfe3e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18E32A-99A7-4BA8-BB11-A2CFB0A6040E}" type="slidenum">
              <a:rPr b="0" lang="ru-RU" sz="1200" spc="-1" strike="noStrike">
                <a:solidFill>
                  <a:srgbClr val="ffffff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453440" y="4365720"/>
            <a:ext cx="1608120" cy="239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1557360"/>
            <a:ext cx="8964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Тема: Бухгалтерський облік, його сутність і основи організації</a:t>
            </a: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54080" y="3206880"/>
            <a:ext cx="6407280" cy="24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а обліковими функціями бухгалтерський  облік поділяється н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9440" y="1414440"/>
            <a:ext cx="8785440" cy="477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475000" cy="1857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084720" y="1413000"/>
            <a:ext cx="1879920" cy="1879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nodeType="clickEffect" fill="hold">
                      <p:stCondLst>
                        <p:cond delay="0"/>
                      </p:stCondLst>
                      <p:childTnLst>
                        <p:par>
                          <p:cTn id="4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Фінансовий облік —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584360"/>
            <a:ext cx="7925040" cy="444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nodeType="clickEffect" fill="hold">
                      <p:stCondLst>
                        <p:cond delay="0"/>
                      </p:stCondLst>
                      <p:childTnLst>
                        <p:par>
                          <p:cTn id="5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Податковий облік —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9160" y="1414440"/>
            <a:ext cx="7347240" cy="3529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588000" y="4797360"/>
            <a:ext cx="172908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nodeType="clickEffect" fill="hold">
                      <p:stCondLst>
                        <p:cond delay="0"/>
                      </p:stCondLst>
                      <p:childTnLst>
                        <p:par>
                          <p:cTn id="6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Управлінський облік —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2240" y="1620720"/>
            <a:ext cx="7578720" cy="440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nodeType="clickEffect" fill="hold">
                      <p:stCondLst>
                        <p:cond delay="0"/>
                      </p:stCondLst>
                      <p:childTnLst>
                        <p:par>
                          <p:cTn id="6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800" spc="-1" strike="noStrike">
                <a:solidFill>
                  <a:srgbClr val="dfe3e5"/>
                </a:solidFill>
                <a:latin typeface="Arial"/>
              </a:rPr>
              <a:t>Завдання бухгалтерського обліку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0960" y="1603440"/>
            <a:ext cx="805968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nodeType="clickEffect" fill="hold">
                      <p:stCondLst>
                        <p:cond delay="0"/>
                      </p:stCondLst>
                      <p:childTnLst>
                        <p:par>
                          <p:cTn id="7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800" spc="-1" strike="noStrike">
                <a:solidFill>
                  <a:srgbClr val="dfe3e5"/>
                </a:solidFill>
                <a:latin typeface="Arial"/>
              </a:rPr>
              <a:t>Принципи бухгалтерського обліку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0520" y="1335240"/>
            <a:ext cx="7980120" cy="473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dur="indefinite" nodeType="clickEffect" fill="hold">
                      <p:stCondLst>
                        <p:cond delay="0"/>
                      </p:stCondLst>
                      <p:childTnLst>
                        <p:par>
                          <p:cTn id="8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800" spc="-1" strike="noStrike">
                <a:solidFill>
                  <a:srgbClr val="dfe3e5"/>
                </a:solidFill>
                <a:latin typeface="Arial"/>
              </a:rPr>
              <a:t>Вимоги до бухгалтерського обліку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71520" y="1341360"/>
            <a:ext cx="8254800" cy="4535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940360" y="4581360"/>
            <a:ext cx="216072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nodeType="clickEffect" fill="hold">
                      <p:stCondLst>
                        <p:cond delay="0"/>
                      </p:stCondLst>
                      <p:childTnLst>
                        <p:par>
                          <p:cTn id="9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Бухгалтерський облі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74960" y="1596960"/>
            <a:ext cx="584676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nodeType="clickEffect" fill="hold">
                      <p:stCondLst>
                        <p:cond delay="0"/>
                      </p:stCondLst>
                      <p:childTnLst>
                        <p:par>
                          <p:cTn id="9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260280"/>
            <a:ext cx="820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800" spc="-1" strike="noStrike">
                <a:solidFill>
                  <a:srgbClr val="dfe3e5"/>
                </a:solidFill>
                <a:latin typeface="Arial"/>
              </a:rPr>
              <a:t>Міжнародний герб бухгалтерів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06880" y="1468440"/>
            <a:ext cx="5844960" cy="477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2590920" cy="2952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-517680" y="1620720"/>
            <a:ext cx="3657600" cy="31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nodeType="clickEffect" fill="hold">
                      <p:stCondLst>
                        <p:cond delay="0"/>
                      </p:stCondLst>
                      <p:childTnLst>
                        <p:par>
                          <p:cTn id="10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uk-UA" sz="3600" spc="-1" strike="noStrike">
                <a:solidFill>
                  <a:srgbClr val="dfe3e5"/>
                </a:solidFill>
                <a:latin typeface="Arial"/>
              </a:rPr>
              <a:t>В процесі обліку використовують    такі види вимірників: </a:t>
            </a:r>
            <a:br>
              <a:rPr sz="3600"/>
            </a:br>
            <a:r>
              <a:rPr b="0" lang="ru-RU" sz="3200" spc="-1" strike="noStrike">
                <a:solidFill>
                  <a:srgbClr val="dfe3e5"/>
                </a:solidFill>
                <a:latin typeface="Arial"/>
              </a:rPr>
              <a:t> 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3680" y="1481040"/>
            <a:ext cx="8210520" cy="4754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68680" y="3548160"/>
            <a:ext cx="4078440" cy="23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6400" y="1414440"/>
            <a:ext cx="5815080" cy="4462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626080" y="2481120"/>
            <a:ext cx="3017880" cy="22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dfe3e5"/>
                </a:solidFill>
                <a:latin typeface="Arial"/>
              </a:rPr>
              <a:t>Натуральні </a:t>
            </a: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вимірники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3565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55640" y="4367160"/>
            <a:ext cx="186696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3680" y="695160"/>
            <a:ext cx="8235720" cy="5540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547640" y="182520"/>
            <a:ext cx="3576960" cy="18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348000" y="189000"/>
            <a:ext cx="2548080" cy="1911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03360" y="1554120"/>
            <a:ext cx="7937280" cy="43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6720" y="1292400"/>
            <a:ext cx="8204400" cy="5565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Господарський облі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08400" y="1268280"/>
            <a:ext cx="6156000" cy="506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53880" y="1852560"/>
            <a:ext cx="205452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nodeType="clickEffect" fill="hold">
                      <p:stCondLst>
                        <p:cond delay="0"/>
                      </p:stCondLst>
                      <p:childTnLst>
                        <p:par>
                          <p:cTn id="1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uk-UA" sz="4200" spc="-1" strike="noStrike">
                <a:solidFill>
                  <a:srgbClr val="dfe3e5"/>
                </a:solidFill>
                <a:latin typeface="Arial"/>
              </a:rPr>
              <a:t>Метою</a:t>
            </a: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 господарського облік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1414440"/>
            <a:ext cx="8285400" cy="4632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65440" y="4237200"/>
            <a:ext cx="3810240" cy="393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nodeType="clickEffect" fill="hold">
                      <p:stCondLst>
                        <p:cond delay="0"/>
                      </p:stCondLst>
                      <p:childTnLst>
                        <p:par>
                          <p:cTn id="2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Arial"/>
              </a:rPr>
              <a:t>За видами господарський облік поділяється на: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9800" y="1603440"/>
            <a:ext cx="8498160" cy="4559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305080" cy="1981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nodeType="clickEffect" fill="hold">
                      <p:stCondLst>
                        <p:cond delay="0"/>
                      </p:stCondLst>
                      <p:childTnLst>
                        <p:par>
                          <p:cTn id="2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3360" y="1395360"/>
            <a:ext cx="757080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6400" y="1620720"/>
            <a:ext cx="7998120" cy="36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189000"/>
            <a:ext cx="806436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4000" spc="-1" strike="noStrike">
                <a:solidFill>
                  <a:srgbClr val="9147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Бухгалтерський облік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це процес безперервного виявлення, вимірювання, реєстрації, накопичення, узагальнення, зберігання та передачі інформації у вартісному вигляді про господарську діяльність підприємства зовнішнім та внутрішнім користувачам для прийняття рішен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295272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nodeType="clickEffect" fill="hold">
                      <p:stCondLst>
                        <p:cond delay="0"/>
                      </p:stCondLst>
                      <p:childTnLst>
                        <p:par>
                          <p:cTn id="3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228600"/>
            <a:ext cx="774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dfe3e5"/>
                </a:solidFill>
                <a:latin typeface="Arial"/>
              </a:rPr>
              <a:t>Бухгалтерський облік </a:t>
            </a:r>
            <a:r>
              <a:rPr b="0" lang="uk-UA" sz="2400" spc="-1" strike="noStrike">
                <a:solidFill>
                  <a:srgbClr val="dfe3e5"/>
                </a:solidFill>
                <a:latin typeface="Arial"/>
              </a:rPr>
              <a:t>у загальному циклі управління підприємством (планування — облік — аналіз — регулювання) виконує такі функції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9800" y="1914480"/>
            <a:ext cx="6766200" cy="410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7:04:55Z</dcterms:created>
  <dc:creator>one</dc:creator>
  <dc:description/>
  <dc:language>en-US</dc:language>
  <cp:lastModifiedBy>Ольга Іванівна</cp:lastModifiedBy>
  <dcterms:modified xsi:type="dcterms:W3CDTF">2019-10-23T08:57:21Z</dcterms:modified>
  <cp:revision>61</cp:revision>
  <dc:subject/>
  <dc:title>Т.1 Бухгалтерський облік його суть і основи організації</dc:title>
</cp:coreProperties>
</file>